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66C-3CB6-42BC-8ACF-FA292C42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832-4208-4241-BB43-2208B0B5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A2C-B37D-417E-A615-0C25C451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F77-EF4F-4721-B5DE-27B26296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98B-39C1-49F1-A937-0233761A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9A68-CDF4-4CA0-B4A6-283DB2AE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96EC-E9D1-41CA-8BF9-BD5F7F13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AE26-DCF2-4566-BEAF-6E368A9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72DD-6806-4471-A3DB-68EFB8AA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48E7-811E-476F-A414-69FE0EE4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3C2-E747-40BB-A608-6AB4575F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3D9-AC6B-4902-B992-E1B5FED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D13B-F9C6-4496-9465-447D7E1B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B57-746C-47BA-86E5-42C08F0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39E-17E2-429E-B555-CBA042F7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4AD6-76F5-45E3-A3EC-F8138BA8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D34-6C17-4E69-974B-D4F39B3E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ADE-AD1D-4E37-9680-78B00A4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941-E529-4196-9D15-802AE760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649-6AE0-488E-A2AB-4989862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BCB-4F33-4B65-A1A9-7F8E738D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A97-0AFF-4954-9D68-8ED7399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C3F-3AE1-4F10-BDD5-C165818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8E1-71C3-4029-9229-8405EC2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0336-3D22-44CE-AFAC-77EF2E7FA0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D417-D39B-4BA3-8344-181C2D2D7F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203560"/>
            <a:ext cx="715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UŁAMKÓW O TYCH SAMYCH MIANOWNIK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27360" y="375444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ęcej figury zamalowała Ania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000" y="177624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ęcej pizzy zjadł Lolek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6039000"/>
            <a:ext cx="59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 odległość punktu jest większa, która leży dalej od zera; za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360" y="86364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) Bolek zjadł    , a  Lolek    tej samej pizzy. Który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z chłopców zjadł więcej pizz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9720" y="83016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6732720" y="1360440"/>
            <a:ext cx="946080" cy="1393920"/>
            <a:chOff x="6732720" y="1360440"/>
            <a:chExt cx="946080" cy="13939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732720" y="1360440"/>
              <a:ext cx="946080" cy="1393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6777720" y="2397240"/>
                  <a:ext cx="149040" cy="3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122720" y="81900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376280" y="288936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) Ania zamalowała    figury, Lenka    figury. Która z dziewczynek zamalowała większą część figu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8128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5772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1467000" y="5003640"/>
            <a:ext cx="5759280" cy="393840"/>
            <a:chOff x="1467000" y="5003640"/>
            <a:chExt cx="5759280" cy="393840"/>
          </a:xfrm>
        </p:grpSpPr>
        <p:sp>
          <p:nvSpPr>
            <p:cNvPr id="111" name=""/>
            <p:cNvSpPr/>
            <p:nvPr/>
          </p:nvSpPr>
          <p:spPr>
            <a:xfrm>
              <a:off x="1467000" y="5003640"/>
              <a:ext cx="57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) Na osi liczbowej zaznaczono punkty    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83236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47200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5136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3064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27800" y="4340160"/>
                <a:ext cx="393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73880" y="2090880"/>
                <a:ext cx="393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48480" y="6354720"/>
                <a:ext cx="533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2141640" y="3519360"/>
            <a:ext cx="1214280" cy="1452240"/>
            <a:chOff x="2141640" y="3519360"/>
            <a:chExt cx="1214280" cy="1452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673000" y="4628880"/>
                  <a:ext cx="128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141640" y="3519360"/>
              <a:ext cx="1214280" cy="113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6642000" y="3564000"/>
            <a:ext cx="1170000" cy="1439280"/>
            <a:chOff x="6642000" y="3564000"/>
            <a:chExt cx="1170000" cy="1439280"/>
          </a:xfrm>
        </p:grpSpPr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7170120" y="4660920"/>
                  <a:ext cx="127440" cy="34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642000" y="3564000"/>
              <a:ext cx="117000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050920" y="1554120"/>
            <a:ext cx="1306800" cy="1335240"/>
            <a:chOff x="2050920" y="1554120"/>
            <a:chExt cx="1306800" cy="133524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050920" y="1554120"/>
              <a:ext cx="1306800" cy="133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281320" y="1739880"/>
                  <a:ext cx="12996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9" name=""/>
          <p:cNvGraphicFramePr/>
          <p:nvPr/>
        </p:nvGraphicFramePr>
        <p:xfrm>
          <a:off x="1871640" y="5543640"/>
          <a:ext cx="5434200" cy="14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1640" y="5543640"/>
                    <a:ext cx="543420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67000" y="5627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275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7360" y="1306440"/>
            <a:ext cx="6165720" cy="4508280"/>
            <a:chOff x="1827360" y="1306440"/>
            <a:chExt cx="6165720" cy="4508280"/>
          </a:xfrm>
        </p:grpSpPr>
        <p:graphicFrame>
          <p:nvGraphicFramePr>
            <p:cNvPr id="137" name=""/>
            <p:cNvGraphicFramePr/>
            <p:nvPr/>
          </p:nvGraphicFramePr>
          <p:xfrm>
            <a:off x="1827360" y="1306440"/>
            <a:ext cx="616572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7360" y="1306440"/>
                      <a:ext cx="616572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141640" y="194760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Z dwóch ułamków </a:t>
              </a:r>
              <a:br>
                <a:rPr sz="4000"/>
              </a:b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tych samych mianownikach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jest ten, który m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 liczn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42:12Z</dcterms:modified>
  <cp:revision>49</cp:revision>
  <dc:subject/>
  <dc:title>Slajd 1</dc:title>
</cp:coreProperties>
</file>